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projctor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61F-8EF5-4071-9354-58EA0A3C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AB5-A9E6-45AB-BFE6-D2222A7B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C0F-242E-4C70-A2D2-0868F710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535-46E1-415A-90C8-243E727A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854-6E5F-4032-8B05-9BE34E7C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04F-BBF3-4C72-B87D-6147F019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454-0EC7-46E4-972A-B159DD96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4AE-329B-47AA-9F9B-3B76D4F6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927-5D1C-4C5F-A85D-2146B26D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EB9-5743-42F8-86B4-C247E2FC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50C-9A2A-46C6-8CAB-B8C9142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5FB-C1DE-4C5B-A754-3A0B0E1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74C0-C2FB-4684-B93B-C70CC38D3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neaux.com/assets/images/CAR.gif" TargetMode="External"/><Relationship Id="rId2" Type="http://schemas.openxmlformats.org/officeDocument/2006/relationships/image" Target="../media/image2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mporium.markwilliams.com/Images/Categories/gift.gif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arentsdaujourdhui.com/html/loisirs/images/clown.gif" TargetMode="External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rowncounty.org/images/crayons.gif" TargetMode="External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Primer Dolch Word L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Julie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76720" y="4495680"/>
            <a:ext cx="2582640" cy="2000520"/>
            <a:chOff x="3276720" y="4495680"/>
            <a:chExt cx="2582640" cy="20005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276720" y="4495680"/>
              <a:ext cx="258264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62160" y="5029200"/>
              <a:ext cx="1142640" cy="609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d L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truck goe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4800600"/>
            <a:ext cx="5791320" cy="1055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gift i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4419720"/>
            <a:ext cx="2286000" cy="1806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illy the clown i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unn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4191120"/>
            <a:ext cx="2286000" cy="17604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 will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new crayon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495680"/>
            <a:ext cx="2057400" cy="1668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m loves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shopp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29000" y="4114800"/>
            <a:ext cx="2274840" cy="18511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grass i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304020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o feed the do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7:53:55Z</dcterms:created>
  <dc:creator>jctc</dc:creator>
  <dc:description/>
  <dc:language>en-US</dc:language>
  <cp:lastModifiedBy>jctc</cp:lastModifiedBy>
  <dcterms:modified xsi:type="dcterms:W3CDTF">2001-09-14T17:59:16Z</dcterms:modified>
  <cp:revision>2</cp:revision>
  <dc:subject/>
  <dc:title>Pre-Primer Dolch Word List Part 2</dc:title>
</cp:coreProperties>
</file>